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3F3-B100-47F0-A872-82CEF7DA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2C3-8E5B-4837-A5AA-1F0E7569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94D-D0FD-475D-8AB2-A0D0BC51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F2C-A424-4BAB-A9F1-3B2C0951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D47-12C4-4630-B684-FB42DC83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F4D9-4740-4061-8F87-84DAF20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B12-399D-46B3-A72F-A4B705C7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6D5C-9497-49B0-8028-EC512C09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F47C-64EA-439C-B359-DCBCA81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942-3B97-4DE3-8D76-6B5711C7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E0A-27AD-4D44-8539-7089A01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09F-9EBB-4A72-824E-3A63C48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741-0B84-4E49-AE80-C1EC0AE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7C01-1B85-43D8-ADF5-4868F64E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A467-B71F-49ED-8AB0-1B832A97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EAA7-8173-4101-9F47-93A587DA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F07F-7954-4D03-8A37-7803FFE9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668-AE39-42CA-B045-CDC5B4F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0FC-FCB9-42C1-8BE6-6737117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9BF-2D53-4370-A322-C7E8723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4A5-0DDA-49FF-876A-742CE8F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1CF-040F-4953-ACA4-A8D9993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978-3247-45DA-BA2C-920EAC02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824-0013-4AFC-9564-B87FE54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90DFF-B364-43C4-9E9C-C273558C5AA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A5CBB-B76F-4FA4-9507-A929E3037EA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7BEFF-DFB9-4F00-99F3-BD0959DD702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45889-9D6F-4FC9-A972-94BDC26FF4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orifera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Sponge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1133640" y="1600200"/>
            <a:ext cx="687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ymmetric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2286000"/>
            <a:ext cx="8042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icules (bone-like particl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ssile (don’t mov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Budding, Regeneration, Gemm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2286000"/>
            <a:ext cx="8042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rried out by specialized cells: collar cells &amp; ameobocy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2362320"/>
            <a:ext cx="8042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 across cell membranes; water &amp; waste expelled though osculu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NHS NPS</cp:lastModifiedBy>
  <dcterms:modified xsi:type="dcterms:W3CDTF">2012-05-15T12:33:36Z</dcterms:modified>
  <cp:revision>4</cp:revision>
  <dc:subject/>
  <dc:title>Animal Phyla Chart</dc:title>
</cp:coreProperties>
</file>